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6D7-23E4-45F6-894A-07A778B5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F90-3692-4F42-A42D-78A09987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D38-3338-4A6F-A468-F7E556B5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5434-F0A9-4335-9FAE-D8048AEE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63D5-5DA4-4C6C-A657-CD4397FD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CAF6-6CE9-4A51-BD33-3DC62BD2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3246-8D84-4AC1-80D0-88BD1248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64B6-9F83-4912-B288-A07F1F86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3E27-6B27-4980-9F69-76735312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CF8F-BB73-40F1-9D0D-E10B29DC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9518-5FAE-4BB4-85A2-ED0C5E08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C492-1532-45DC-8BFF-A8BDFDC4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7835-E560-49CD-9B1E-F5969D03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621B-5D9C-4E75-B7C0-A42CCA8C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3665-9788-4DD1-9EFC-08D74AB0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82D7-570E-4B93-A8C2-3D61E320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192200"/>
            <a:ext cx="2649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4033-7EBE-4DF5-81A7-7A2364B2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D4F-DA54-4A6F-BD66-73DC4839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1AA-A8D0-4DC1-AA02-124E1D86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0A6-0491-494C-AC60-50779152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778D-4CF6-4B9D-8CD5-B9374E98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D27F-3DE0-46EF-9E90-F10103F2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9220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087-2AEA-49DB-8822-FCCCC1B4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7023-7038-4875-9CD4-42A6BCC7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36B401-F657-4DE3-AA27-D3D90EEB8A7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D8A7EC5-F28F-4CC1-B472-CEDFDD4FDAE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68400"/>
            <a:ext cx="77724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2b5481"/>
                </a:solidFill>
                <a:latin typeface="Tahoma"/>
              </a:rPr>
              <a:t>La didattizzazione della lezion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b5481"/>
                </a:solidFill>
                <a:latin typeface="Tahoma"/>
              </a:rPr>
              <a:t>Graziano Serragiot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b5481"/>
                </a:solidFill>
                <a:latin typeface="Tahoma"/>
              </a:rPr>
              <a:t>serragiotto@unive.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b5481"/>
                </a:solidFill>
                <a:latin typeface="Tahoma"/>
              </a:rPr>
              <a:t>Università Ca’ Foscari Venez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2b5481"/>
                </a:solidFill>
                <a:latin typeface="Tahoma"/>
              </a:rPr>
              <a:t>Apprendere il contenu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Materia intera oppure modul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2b5481"/>
                </a:solidFill>
                <a:latin typeface="Tahoma"/>
              </a:rPr>
              <a:t>La ma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Elementi di difficoltà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- aspetti verba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-  aspetti non linguistici (ad es. grafici)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-  concreto/astrat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-  presente/dist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-  tipi testuali/ discor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-  tipi gen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-  linguaggio formalizzato  - e problemi per CL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4884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2b5481"/>
                </a:solidFill>
                <a:latin typeface="Tahoma"/>
              </a:rPr>
              <a:t>Obiettivi da raggiungere =  fondamental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Conoscenze (concetti, nozioni) = sap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Competenze = sapere f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Dimensione cognitiva = necessari per </a:t>
            </a:r>
            <a:r>
              <a:rPr b="0" lang="en-GB" sz="3200" spc="-1" strike="noStrike">
                <a:solidFill>
                  <a:srgbClr val="2b5481"/>
                </a:solidFill>
                <a:latin typeface="Wingdings 3"/>
                <a:ea typeface="Wingdings 3"/>
              </a:rPr>
              <a:t>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Dimensione linguist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e problemi per CL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2b5481"/>
                </a:solidFill>
                <a:latin typeface="Tahoma"/>
              </a:rPr>
              <a:t>Tipo inpu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Cartaceo /or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Misto: registrato (es. multimediale)</a:t>
            </a: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Elettronico (da internet)</a:t>
            </a: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Pedagogici/non pedagogi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Difficoltà d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2b5481"/>
                </a:solidFill>
                <a:latin typeface="Tahoma"/>
              </a:rPr>
              <a:t>Modalità di insegnam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Trasmissivo (chi domina?)</a:t>
            </a: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Interattivo, collaborativo (quanta partecipazione?)</a:t>
            </a: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Attività privilegiate (esercizi, task)</a:t>
            </a: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Studente (passivo, reattivo, pro-attivo)</a:t>
            </a: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e problemi per CL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2b5481"/>
                </a:solidFill>
                <a:latin typeface="Tahoma"/>
              </a:rPr>
              <a:t>Per assicurare gli obiettiv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Condivisione fra docen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Attenzione al fuo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Aderenza al modello didattico della disciplina (ma attenzione)</a:t>
            </a: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2b5481"/>
                </a:solidFill>
                <a:latin typeface="Tahoma"/>
              </a:rPr>
              <a:t>Apprendere il contenuto (1)</a:t>
            </a:r>
            <a:r>
              <a:rPr b="0" lang="en-GB" sz="4400" spc="-1" strike="noStrike">
                <a:solidFill>
                  <a:srgbClr val="2b5481"/>
                </a:solidFill>
                <a:latin typeface="Tahoma"/>
              </a:rPr>
              <a:t>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Semplificazione/facilitazione – input comprensibile &amp; nuovi contenuti (schemata)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Strategie dal docent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- sull’input orale: i. aspetti forma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ii. aspetti interattiv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iii. aspetti non-verba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b5481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2b5481"/>
                </a:solidFill>
                <a:latin typeface="Tahoma"/>
              </a:rPr>
              <a:t>Apprendere il contenuto (2)</a:t>
            </a:r>
            <a:r>
              <a:rPr b="0" lang="en-GB" sz="4400" spc="-1" strike="noStrike">
                <a:solidFill>
                  <a:srgbClr val="2b5481"/>
                </a:solidFill>
                <a:latin typeface="Tahoma"/>
              </a:rPr>
              <a:t>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Facilitazione input scrit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-  Aspetti form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Aspetti interattivi- metodologico didat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Discorso pedagog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Tipi di esercizi/compi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Varietà esercizi/compi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2b5481"/>
                </a:solidFill>
                <a:latin typeface="Tahoma"/>
              </a:rPr>
              <a:t>Apprendere il contenuto (3)</a:t>
            </a:r>
            <a:r>
              <a:rPr b="0" lang="en-GB" sz="4400" spc="-1" strike="noStrike">
                <a:solidFill>
                  <a:srgbClr val="2b5481"/>
                </a:solidFill>
                <a:latin typeface="Tahoma"/>
              </a:rPr>
              <a:t>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Macro/micro alternan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Problem sol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Tipi di esercizi/compi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Varietà esercizi/compi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b5481"/>
                </a:solidFill>
                <a:latin typeface="Tahoma"/>
              </a:rPr>
              <a:t>Attività collaborative e cooper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az</cp:lastModifiedBy>
  <dcterms:modified xsi:type="dcterms:W3CDTF">2008-11-20T18:03:07Z</dcterms:modified>
  <cp:revision>1</cp:revision>
  <dc:subject/>
  <dc:title>Apprendimento linguistico e contenuto insieme: aspetti cognitivi, problemi didattici</dc:title>
</cp:coreProperties>
</file>